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B49-5B46-4245-AA5A-859FB243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1A2-0204-4FA3-AEB8-682A3C3D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1DE-6737-4EA9-B3A0-257EE699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863-9ED3-47B7-B46E-6C76F12A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50C-CF76-4334-B960-53159142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ECA-0D5C-472E-B8DD-8BDFC926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39F8-1724-4949-B666-69B64227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0566-B9B7-4D16-93CE-CB61791C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DB4-AD99-4FB6-9CAF-821CA215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CD0-D96D-4B22-AD61-D9BCC1D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986-13E7-4E81-AB30-5B552968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927-3AF0-4089-9DAF-D2DCC3C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85C204-C77E-4951-907D-B83F11EB9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68280" y="606600"/>
            <a:ext cx="6811920" cy="460188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689040" y="2127240"/>
            <a:ext cx="7869240" cy="1639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428840" y="5110200"/>
            <a:ext cx="6230880" cy="16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2 hours to map out key features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Roehampton University ground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f6228"/>
                </a:solidFill>
                <a:latin typeface="Calibri"/>
              </a:rPr>
              <a:t>(Physical and Human geograph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ng the GP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09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Press the PAGE button until you s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ENU sc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Scroll down until y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ight WAY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OK on waypoint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scroll down to U-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Then click OK. You can th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waypoint e.g – RU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on it, then click OK and OK aga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30578" t="10267" r="27868" b="11830"/>
          <a:stretch/>
        </p:blipFill>
        <p:spPr>
          <a:xfrm>
            <a:off x="6710400" y="1041480"/>
            <a:ext cx="24336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4044960" y="714240"/>
            <a:ext cx="5154480" cy="599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4538520" cy="593244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825480" y="2705040"/>
            <a:ext cx="8028000" cy="2846520"/>
          </a:xfrm>
          <a:prstGeom prst="rect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5120" y="92664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N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 PANIC!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 will explain in more detail on Thursd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1197360" y="3060720"/>
            <a:ext cx="7535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Just reme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are using GPS units and mapping symbols to construct an OS map of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university groun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are working as a team to come up with the most accurate 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You will have loads of fun and learn valuable fieldwork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See you at 12:30!  May the best map win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 GPS navigator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Content Placeholder 3" descr=""/>
          <p:cNvPicPr/>
          <p:nvPr/>
        </p:nvPicPr>
        <p:blipFill>
          <a:blip r:embed="rId1"/>
          <a:srcRect l="0" t="31592" r="0" b="31592"/>
          <a:stretch/>
        </p:blipFill>
        <p:spPr>
          <a:xfrm>
            <a:off x="1595520" y="1417680"/>
            <a:ext cx="5825880" cy="3203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817560" y="5199120"/>
            <a:ext cx="807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a digital compass. A GPS navigator communicates with the satellites to tell yo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ctly where you are (using co ordinates). They can also tell you where you ne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, by having co ordinates already programmed into them. Super clever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will learn how to use them on our CREATIVE MAPPING CHALLEN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806400" y="3218040"/>
            <a:ext cx="1824120" cy="1822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3"/>
          <a:stretch/>
        </p:blipFill>
        <p:spPr>
          <a:xfrm>
            <a:off x="6094440" y="1166760"/>
            <a:ext cx="2654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t first, here is your challenge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be using GPS navigators to guide you to seven different locations in the Roehampton University 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get to each location, you will need to complete a mini ta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walking the grounds, you will also need to work as a team to construct an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 map, using agreed symb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alibri"/>
              </a:rPr>
              <a:t>A WINNING MAP WILL BE CHOSEN FOR ITS ACCURACY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ill you have in your pack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GPS navigato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clipboard with a template map of the gro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task c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encils and rubber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ur teacher will have the trail leader’s number to call for assista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Calibri"/>
              </a:rPr>
              <a:t>But remember – problem solving and teamwork are key aspects of the challeng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fore your arrival, you need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e clear about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the GPS navig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construct a basic OS 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…</a:t>
            </a: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So listen carefully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en-US" sz="2800" spc="-1" strike="noStrike">
                <a:solidFill>
                  <a:srgbClr val="008000"/>
                </a:solidFill>
                <a:latin typeface="Calibri"/>
              </a:rPr>
              <a:t>These next few moments a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Calibri"/>
              </a:rPr>
              <a:t>SUPER IMPORTANT!!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491160" y="930240"/>
            <a:ext cx="229248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83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OS mapping tip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rcRect l="0" t="27736" r="0" b="27736"/>
          <a:stretch/>
        </p:blipFill>
        <p:spPr>
          <a:xfrm>
            <a:off x="873000" y="981000"/>
            <a:ext cx="7446960" cy="31021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790640" y="4194000"/>
            <a:ext cx="725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OS map is a survey map that uses AGREED symbo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try to be super accurate with our positioning and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use the compass and GPS to orientate ourselv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723960" y="5318280"/>
            <a:ext cx="807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you move through the grounds, look out for features that are alread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your map. Then you will be able work out where to mark in your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the following symbo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se are your symbols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will have them on the back of your task car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1044720" y="384120"/>
            <a:ext cx="71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use your GPS uni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1" descr="image001et.jpg"/>
          <p:cNvPicPr/>
          <p:nvPr/>
        </p:nvPicPr>
        <p:blipFill>
          <a:blip r:embed="rId1"/>
          <a:srcRect l="1142" t="0" r="1142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r locations (waypoints) are call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289240" y="1204920"/>
            <a:ext cx="446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can go to each location in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er order you wish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you program a location i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will direct you there, using an arrow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0" r="49800" b="0"/>
          <a:stretch/>
        </p:blipFill>
        <p:spPr>
          <a:xfrm>
            <a:off x="5997600" y="2228760"/>
            <a:ext cx="2600280" cy="4492800"/>
          </a:xfrm>
          <a:prstGeom prst="rect">
            <a:avLst/>
          </a:prstGeom>
          <a:ln w="0">
            <a:noFill/>
          </a:ln>
        </p:spPr>
      </p:pic>
      <p:cxnSp>
        <p:nvCxnSpPr>
          <p:cNvPr id="68" name="Straight Arrow Connector 8"/>
          <p:cNvCxnSpPr/>
          <p:nvPr/>
        </p:nvCxnSpPr>
        <p:spPr>
          <a:xfrm flipV="1">
            <a:off x="4959000" y="4462200"/>
            <a:ext cx="1793160" cy="821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TextBox 9"/>
          <p:cNvSpPr/>
          <p:nvPr/>
        </p:nvSpPr>
        <p:spPr>
          <a:xfrm>
            <a:off x="2867040" y="5146560"/>
            <a:ext cx="23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ance to lo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ass and arrow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Straight Arrow Connector 12"/>
          <p:cNvCxnSpPr/>
          <p:nvPr/>
        </p:nvCxnSpPr>
        <p:spPr>
          <a:xfrm flipV="1">
            <a:off x="5111280" y="5282640"/>
            <a:ext cx="1793160" cy="81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2T19:08:10Z</dcterms:created>
  <dc:creator>Andrew Allan</dc:creator>
  <dc:description/>
  <dc:language>en-US</dc:language>
  <cp:lastModifiedBy>stephen ellis</cp:lastModifiedBy>
  <dcterms:modified xsi:type="dcterms:W3CDTF">2015-06-23T07:01:04Z</dcterms:modified>
  <cp:revision>12</cp:revision>
  <dc:subject/>
  <dc:title>GPS Mapping Challenge</dc:title>
</cp:coreProperties>
</file>